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CAMERA.WAV" ContentType="audio/x-wav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619-CC03-43D5-A801-4017F372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956-CA9E-4C1D-9A75-10A412C5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1DE-2BEF-45C5-BA89-24FA343A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B86-DA04-4924-BB45-478A7F81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256-C571-49AB-A48D-35B7EC5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B02-C5F5-4D64-B4C4-2972AF0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41D-33B2-46F9-8E0F-C613007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D10-85BE-4F31-A67F-4F08ADB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AEF-A7D0-4C6B-ACAA-3866BE12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7ED-5AC1-40D4-92C0-F8D881C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63A-0859-4321-BA2A-97D93BB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C91-5C6F-4E82-98FC-89A9853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562A-851A-4EB8-A4C6-D21881E80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0" y="2895480"/>
            <a:ext cx="302436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171"/>
                <a:gd name="adj2" fmla="val 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The World is Not Flat</a:t>
            </a:r>
            <a:endParaRPr b="1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1481400" cy="16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covering Student Ideas in Science, Volume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age Keeley, Francis Eberle, and Joyce Tu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Version 1)  Probe 20, p. 1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hings on this list could be rock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cide if something is a ro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X next to the things you think could be a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jagged boul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smooth bou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small 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large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peb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piece of g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piece of s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dust from two ston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ubb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your thin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“rule” or reasoning did you use to decide if something is a ro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= 21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 jagged boul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 smooth bou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 small 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  large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  peb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6  piece of g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  piece of s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5  dust from two ston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rubb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lder means large rock: stone is basically a rock: I think it is because it is not easy to break a rock. I think a piece of sand is a rock because it is very small but tough and can be melted into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stone is a rock because a stone we all know is kind of a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rock because rocks are many shape (jagged boulder, smooth bolder, small stone, large stone, piece of s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13372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rocks are smooth (jagged boul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that large stones are rocks cause it a piece of rock and a pebble is from a rock and piece of sand is very very small piece of rock and I know lots of things on the ground is part of r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bbles are considered a rock because as pebble is when one rock overpowered by a bou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bble is a rock because it is little and is shaped like a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gged boulder it’s a rock because its hard and smooth. Smooth boulder is a rock because its smo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133720"/>
            <a:ext cx="830556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stone is a rock because it is hard and it has to be black or som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ree could be a rock (small stone, large stone, pebble) because I saw one before (I th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now what is a pebble, small stone, large stone, piece of sand, and dust from two stones rubb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rule for a rock everything needs to be hard and big. (jagged boulder, smooth boulder, and large st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 = hard object made of minerals (did not select piece of gravel or d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stone is a rock because when a big rock brakes it’s a small stone. Piece of sand is a rock because when you go to the beach and you put your feet in it ther always a rock in it. A pebble is a rock its just small because a big rock brakes it in to a peb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bble is a small piece of rock and a jagged bolder is a big or large rock that could be biger than a human. A smooth bolder is the samething but smo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know what a smooth boulder, jagged bou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2200320"/>
            <a:ext cx="847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never heard of thi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heard of this but I’m not sure what i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some idea what it means: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learly know what it means and can describ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 Metamorphic Rock  Igneous Rock  Sedimentary Rock  Minerals  Weathering  Runoff  Sediment  Soil  Melting  Cement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TIP-Scientific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ventory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&amp; Space Science Standar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 and give examples of ways in which the Earth’s surface is built up and torn down by natural processes, including deposition of sediments, rock formation, erosion, and weather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ientific Terminology Inventory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ience Formative Assess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ge Keeley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56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ientific Terminology Inventory 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short, simple questionnaires that ascertain students’ familiarity with a scientific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elect a response based on their level of famili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udents claim to be familiar with the term, they are asked to provide a description to reveal the extend to which they connect conceptual understanding to termi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Promotes Stud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ACT provides a metacognitive opportunity for students to determine how familiar they are with the scientific terminology used in an instructional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may recall a scientific term but have minimal conceptual understanding as to what it 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Promotes Stud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, some students may realize they not only recall a term from prior experiences but understand it well enough to explain it to another stu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Informs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used at the beginning of a sequence of lessons to determine how familiar students are with the scientific terminology they will encounter in the topic they will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s are used to consider ways to effectively introduce terminology into an instructional unit so that students can hang conceptual meaning onto a scientific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and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no more that 12 words from the key scientific terminology that students will learn and use during the topic of instruction or encounter in their instructional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space for students who know the term to be able to describe it using formal or operational definitions, descriptions, o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 and save student responses to provide students opportunity to reflect on their pre- and postfamiliarity with scientific terminology and conceptual understanding of the words used during the unit of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IP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nger students (I will use with my ELL, SPED), consider using only a few key scientific terms, providing an opportunity for them to explain their understanding of the word orally or in draw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ience Formativ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0: Frayer Model Graphic Organiz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ter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its essential characteristi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examples of the idea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non-examples of the id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r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981080"/>
          <a:ext cx="8382240" cy="411480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 IN                              NATIVE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429000" y="3505320"/>
            <a:ext cx="24004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r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981080"/>
          <a:ext cx="8382240" cy="411480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429000" y="3505320"/>
            <a:ext cx="24004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r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1981080"/>
          <a:ext cx="8382240" cy="411480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429000" y="3505320"/>
            <a:ext cx="24004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ography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e Six: Unit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quiry #10: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One: “Characteristics of Rocks”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Two: “Rock Classification”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Three: “The Rock Cyc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-up/summarizer: Activity Four: “Focus Questions on Rocks” question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 Activity Four: “Focus Questions on Rocks” questions 2 +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st Park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6 Bilingual 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6 .4 Speci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groups were combined into one class on January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remainder of the school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s It a Rock (Versio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administer Rock S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visit How Hot is the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elf assessment and reflection: FACT #28: I Used to Think … But Now I Know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With Modification)  And This Is How I Learn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arth Scienc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Chapter 8, Erosion and We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Biography of the Earth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nquiry #8: Destructive Forces- Weathering, Inquiry #9: Er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eathering and Erosion S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veryday Science Mysterie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Richard Konicek-Moran, “Master Garden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ssessment: Grade 6 Earth and Space Science District Mid-year Exam OR Question 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terest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ience Formative Assess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age Keeley    #26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es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: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est Sca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way to gauge student interest in the topic being t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ique uses a chart with a marked scale in which students place Post-it notes on a scale of low to high to indicate their level of interest in the topic being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Promotes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interest is a strong, contributing factor to student learning. Providing an opportunity to express their interest level shows students that you value knowing their level of engagement in the learning proces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Informs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e strategy can be used to identify the level of interest before instruction, or during certain points in a unit when student interest in a topic may be w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acher uses the feedback to modify lessons as appropriate in order to make the content more relevant and engaging to stud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Informs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ategy helps spot particular students or groups of students who may be disengaged and need differentiated strategies for motivating and interesting them in learning about the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and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having students identify their interest level before you begin instruction in the topic (E&amp;SS Earth’s History Standard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them a few minutes to discuss what they think the topic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students Post-it notes and ask them to place them by the range value that matches their current level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and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tudents to be thoughtful and hon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tudents to think about why the topic interests or does not intere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t during different points – reposition Post-it notes – discuss drop in interest or interest level rises to find out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38:48Z</dcterms:created>
  <dc:creator>SLC</dc:creator>
  <dc:description/>
  <dc:language>en-US</dc:language>
  <cp:lastModifiedBy>Ruth</cp:lastModifiedBy>
  <dcterms:modified xsi:type="dcterms:W3CDTF">2010-02-02T20:34:04Z</dcterms:modified>
  <cp:revision>90</cp:revision>
  <dc:subject/>
  <dc:title>INTRODUCTION TO PIPET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/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\PIPET (B7) PPT HTML WIN97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